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37960" y="763200"/>
            <a:ext cx="5492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dt" idx="8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9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0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07426F-1F94-4533-B2F6-ED8C0AE55B9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F6B00-74D3-48DD-99EF-0EE4701971C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609560" y="5729400"/>
          <a:ext cx="5074920" cy="21420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840"/>
                <a:gridCol w="1014840"/>
                <a:gridCol w="1015920"/>
              </a:tblGrid>
              <a:tr h="441000">
                <a:tc>
                  <a:txBody>
                    <a:bodyPr lIns="90000" rIns="90000" tIns="11952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6633"/>
                    </a:solidFill>
                  </a:tcPr>
                </a:tc>
                <a:tc>
                  <a:txBody>
                    <a:bodyPr lIns="90000" rIns="90000" tIns="11952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6633"/>
                    </a:solidFill>
                  </a:tcPr>
                </a:tc>
                <a:tc>
                  <a:txBody>
                    <a:bodyPr lIns="90000" rIns="90000" tIns="11952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6633"/>
                    </a:solidFill>
                  </a:tcPr>
                </a:tc>
                <a:tc>
                  <a:txBody>
                    <a:bodyPr lIns="90000" rIns="90000" tIns="11952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6633"/>
                    </a:solidFill>
                  </a:tcPr>
                </a:tc>
                <a:tc>
                  <a:txBody>
                    <a:bodyPr lIns="90000" rIns="90000" tIns="11952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6633"/>
                    </a:solidFill>
                  </a:tcPr>
                </a:tc>
              </a:tr>
              <a:tr h="441000">
                <a:tc>
                  <a:txBody>
                    <a:bodyPr lIns="90000" rIns="90000" tIns="11952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11952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11952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11952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11952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66"/>
                    </a:solidFill>
                  </a:tcPr>
                </a:tc>
              </a:tr>
            </a:tbl>
          </a:graphicData>
        </a:graphic>
      </p:graphicFrame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D703E-73B1-44B6-A391-976AE1EFAE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2160720"/>
            <a:ext cx="906768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561560"/>
            <a:ext cx="906768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8A828-56B2-488E-AD1F-FD68D65AAA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216072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216072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56156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56156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A1AD1-76FB-457F-BA66-24D8B463F5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2160720"/>
            <a:ext cx="291960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2160720"/>
            <a:ext cx="291960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2160720"/>
            <a:ext cx="291960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561560"/>
            <a:ext cx="291960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561560"/>
            <a:ext cx="291960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561560"/>
            <a:ext cx="291960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19C6D-61BF-4344-A102-8DC8ED0C6F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4185F0-CC79-4E42-BE58-8AF9E1960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2160720"/>
            <a:ext cx="906768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917C0C-F410-4C40-A3B1-07BE14D6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2160720"/>
            <a:ext cx="906768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0E0C2-45C8-4055-A7E0-DF64CA9C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2160720"/>
            <a:ext cx="44247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2160720"/>
            <a:ext cx="44247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99F4A1-C7FB-48B8-B00B-5816FF1F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DD1B5E-9FBD-44D7-BF33-41D571D8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8B3AFA-82D5-4012-93B9-D95A876D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216072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2160720"/>
            <a:ext cx="44247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56156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A756A-2742-4226-B4E0-95771320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2160720"/>
            <a:ext cx="906768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141F3-94A4-45CA-8ACF-6319CF4851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2160720"/>
            <a:ext cx="44247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216072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56156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F5F374-2EF4-4287-8A6A-E1AAA0AC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216072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216072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561560"/>
            <a:ext cx="906768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17ACAF-AE74-45B6-A3DD-F96E5F80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2160720"/>
            <a:ext cx="906768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561560"/>
            <a:ext cx="906768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B3E1A9-D809-40D3-BF0C-74D15D0E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216072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216072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56156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56156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5B1D3-CADA-4F09-B87A-797C503CA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2160720"/>
            <a:ext cx="291960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2160720"/>
            <a:ext cx="291960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2160720"/>
            <a:ext cx="291960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561560"/>
            <a:ext cx="291960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561560"/>
            <a:ext cx="291960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561560"/>
            <a:ext cx="291960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29A7DD-5432-4840-91BE-67930549B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3E1803-25BF-44DC-9AD9-F8D1C9801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3280" y="2160720"/>
            <a:ext cx="906768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9B2A3F-7B71-4B5D-854C-4F945373E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2160720"/>
            <a:ext cx="906768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81D685-2A93-42EC-84E9-A1CFCB5D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2160720"/>
            <a:ext cx="44247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9800" y="2160720"/>
            <a:ext cx="44247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53015E-9785-4783-8919-3E9AABFC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258AD2-1B3A-42F5-9DED-6A31F0DF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2160720"/>
            <a:ext cx="906768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F2675-6BD8-4333-A585-843D5630A6E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61943C-2D2B-4743-BFBB-63205223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216072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9800" y="2160720"/>
            <a:ext cx="44247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3280" y="456156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934FF7-DFE6-4273-88A6-A4FBDC45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2160720"/>
            <a:ext cx="44247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9800" y="216072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9800" y="456156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7B5DAD-102A-4D20-BE21-B1D0C9E3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216072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9800" y="216072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4561560"/>
            <a:ext cx="906768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B65613-9451-4A8F-A05E-C222BE37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2160720"/>
            <a:ext cx="906768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3280" y="4561560"/>
            <a:ext cx="906768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167C72-F3F5-42F6-8BBE-4E693A14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216072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9800" y="216072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3280" y="456156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9800" y="456156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35B527-B825-4611-B15C-33AD5B85F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2160720"/>
            <a:ext cx="291960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2160720"/>
            <a:ext cx="291960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160" y="2160720"/>
            <a:ext cx="291960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3280" y="4561560"/>
            <a:ext cx="291960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561560"/>
            <a:ext cx="291960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160" y="4561560"/>
            <a:ext cx="291960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CCA49D-7C04-4ECC-A30B-324278AC9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2160720"/>
            <a:ext cx="44247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2160720"/>
            <a:ext cx="44247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656EF-BAA7-49D3-B279-A551F0C878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3AC03-973E-42E2-B791-FAAF78ADBA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C80EF-DA8E-4B17-A909-EF07FD9AF9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216072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2160720"/>
            <a:ext cx="44247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56156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A7C1D-3C3C-4C3D-8C08-F6732486C6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2160720"/>
            <a:ext cx="44247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216072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56156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1B112-1580-4705-AAC3-B6F1015E3B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216072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216072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561560"/>
            <a:ext cx="906768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5839F-BC7F-4F58-8258-8C260D19F4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722772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38F62-D23C-460E-A3BA-E966094ED8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444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362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502920" y="667044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3"/>
          </p:nvPr>
        </p:nvSpPr>
        <p:spPr>
          <a:xfrm>
            <a:off x="3448080" y="6670440"/>
            <a:ext cx="31924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4"/>
          </p:nvPr>
        </p:nvSpPr>
        <p:spPr>
          <a:xfrm>
            <a:off x="7227720" y="6670440"/>
            <a:ext cx="234504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EF1C0B-93DF-46C8-A8CA-B97565B81E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3280" y="2160720"/>
            <a:ext cx="906768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5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7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BB635-0B40-4627-AF4D-AC6F90C5024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8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28480" y="186840"/>
            <a:ext cx="907272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5e11a6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5e11a6"/>
                </a:solidFill>
                <a:latin typeface="Arial Black"/>
              </a:rPr>
              <a:t>The Presidential Election</a:t>
            </a:r>
            <a:br>
              <a:rPr sz="4000"/>
            </a:br>
            <a:r>
              <a:rPr b="1" lang="en-US" sz="4400" spc="-1" strike="noStrike">
                <a:solidFill>
                  <a:srgbClr val="5e11a6"/>
                </a:solidFill>
                <a:latin typeface="Arial"/>
              </a:rPr>
              <a:t>                 </a:t>
            </a:r>
            <a:r>
              <a:rPr b="1" lang="en-US" sz="2600" spc="-1" strike="noStrike">
                <a:solidFill>
                  <a:srgbClr val="5e11a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5e11a6"/>
                </a:solidFill>
                <a:latin typeface="Arial Black"/>
              </a:rPr>
              <a:t> by Keasia</a:t>
            </a:r>
            <a:r>
              <a:rPr b="1" lang="en-US" sz="2600" spc="-1" strike="noStrike">
                <a:solidFill>
                  <a:srgbClr val="5e11a6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425520" indent="-32076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ack Ob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2680" y="1767960"/>
            <a:ext cx="44276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425520" indent="-32076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Mitt Rom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85800" y="2286000"/>
            <a:ext cx="3429000" cy="38862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029200" y="2335320"/>
            <a:ext cx="3557520" cy="3836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2971800" y="6237360"/>
            <a:ext cx="3600360" cy="885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3caff"/>
                </a:solidFill>
                <a:latin typeface="Arial Black"/>
              </a:rPr>
              <a:t>2012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83ca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29920" y="228600"/>
            <a:ext cx="90709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ealthcare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74400" y="1449000"/>
            <a:ext cx="465444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bam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bama has Obamacare and he says it protects people from bad insurance practice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75360" y="1600200"/>
            <a:ext cx="4425840" cy="404640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SimSun"/>
              </a:rPr>
              <a:t>Rom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SimSun"/>
              </a:rPr>
              <a:t>Does not like Obamacare and he says the government should not be involved in medical insuranc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ax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b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Use Bush era tax cuts for those people who make less than $250,000 a ye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crease taxes on the wealth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75360" y="1679400"/>
            <a:ext cx="4425840" cy="540720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SimSun"/>
              </a:rPr>
              <a:t>Romne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SimSun"/>
              </a:rPr>
              <a:t>Wants a permanent 20 percent cut in tax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SimSun"/>
              </a:rPr>
              <a:t>Get rid of the death tax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5000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b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ward states with money for improving schools and having better teache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Make colleges more affordabl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29200" y="1601280"/>
            <a:ext cx="44258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SimSun"/>
              </a:rPr>
              <a:t>Rom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SimSun"/>
              </a:rPr>
              <a:t>Wants parents to be able to choose the school their kids go 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SimSun"/>
              </a:rPr>
              <a:t>States should be in charge of education, not federal governme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43020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conomy and job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3280" y="2160720"/>
            <a:ext cx="442584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b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ontinue to work 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growing the u.s private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tor job mar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49800" y="2160720"/>
            <a:ext cx="442584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Mitt Rom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Lift federal regul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Businesses to promo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Ecomic grow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